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51E-276D-4F04-A4B8-08B0DC25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C4C-68D7-4801-A608-7679A89F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1ED-EFB0-416B-B888-91AE34DA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F5A-C79A-45DE-871C-9DB7020C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4F5-2639-4343-8420-54C39B0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EE7-8144-46D8-BFD6-A43D0E5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1F3-077D-405F-A51D-DCB112A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138-6F9D-484E-B06E-38D22AEB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D3A-6FE2-475D-A9EF-A57BAFC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EE1-9B6D-4D48-AD08-B5446DE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68F-10B6-49F3-8ED8-86D54D6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FA0-1700-420B-A104-8037654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2A7-EDB4-4225-A869-4D58EC22B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8580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4:21Z</dcterms:created>
  <dc:creator>Patrick J. Mooney</dc:creator>
  <dc:description/>
  <dc:language>en-US</dc:language>
  <cp:lastModifiedBy>Patrick J. Mooney</cp:lastModifiedBy>
  <dcterms:modified xsi:type="dcterms:W3CDTF">2009-11-03T15:24:14Z</dcterms:modified>
  <cp:revision>3</cp:revision>
  <dc:subject/>
  <dc:title>Slide 1</dc:title>
</cp:coreProperties>
</file>